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qds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0DAE-59DE-4532-A796-799E5E1709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C2FF-6DDF-463F-AC2A-02049647B9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e l'en-tête 4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qd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0E5-1EA1-4442-95F5-A3635707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B85-BB61-407D-8185-A971B3F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8F6-40A7-436C-A85B-04FD4967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758-4B3F-4128-8638-86BCCE4A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6E6-2FD5-4708-A66B-99024942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CACC4-4629-45C7-86CB-9DFBE80C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4E9E3-BEC3-469D-BF9A-23FA19C8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EFFB3-EA06-40D8-B747-A2D1EA45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47616-1699-43B5-AC2F-EA08B51F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887A7-BE3B-42DA-9D6D-170A8651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C2B-22B4-44A6-ADE7-0CACFEF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FF77-B362-4BF6-8BF9-1F869C2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0903-93E0-4DF0-B27E-78CE6BB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C9EC2-EC39-44D4-A3BB-590EF0FA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83A5-9C3E-4A94-A9E6-C5F184D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DB64D-9B0A-4373-838D-C944B6BF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32BE3-F77A-4CD3-9C60-11AA87EA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D7A66-234A-45EE-8D6A-BB17A6B8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4712-D1DE-429E-A4AE-C7067EC8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72BE-DFEB-472C-8322-64D4591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6336-F26A-416E-96B6-5C8E0081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526-10A9-431D-8015-A5358D9B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A051-1F5D-49D9-8A99-5322E9A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61DD-2A92-4BF2-8EE1-94E91560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3B19-21F1-4D44-9987-137567C2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7E8B-8AF8-4521-B346-B15C340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4EE1-4208-4990-B9E0-1CA34D4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841E-C1C1-470E-B152-EBD44EF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FC60-A0B8-4BE5-B93C-63C89A48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5970-EAB6-4B49-B1F2-9C9B4AFA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7133-A82C-42E5-8935-29382343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5E8A-C53C-4222-A274-AFA6CCDA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8C5-A282-473E-83F5-6368C4D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B493-C37F-4C6B-8080-06DCF81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03BA-B912-4064-A6C7-373EC4A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3604-9120-4510-B947-A7A026C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F10E-E912-435A-8442-9327BF8B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1F5F-18FF-4399-A4AA-1FDE6A4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0EC2-2FC9-492E-B0D6-EACE031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221D-CC3A-4C88-BAC6-2EE68B59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B024-FEDC-4B37-99A5-447E981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A5F2-5A80-4BF0-8886-D1558FF4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640B-335D-43FC-9148-DCE5BF82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89D-5C06-4F32-BC35-8D0B303C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A9AED-7627-4238-A452-49414EC3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60F-0FE9-4ACE-83E7-CC17999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F0C-3317-4546-A67E-5F9E8259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027-F987-49DD-A0A0-F5201FD5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1A71-09E8-486E-BC04-3CA84A4DA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logo_eun.jpg"/>
          <p:cNvPicPr/>
          <p:nvPr/>
        </p:nvPicPr>
        <p:blipFill>
          <a:blip r:embed="rId3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06FC-7EF3-41DA-8C9A-DFE5446F4782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6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82B1-A356-41E5-9FD3-CD3055B01095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CCC-D477-4CF6-8AC9-D5693F8DF798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inked-project.wikispaces.com/" TargetMode="External"/><Relationship Id="rId2" Type="http://schemas.openxmlformats.org/officeDocument/2006/relationships/hyperlink" Target="mailto:linked@eun.org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nked-project.wikispaces.com/" TargetMode="External"/><Relationship Id="rId2" Type="http://schemas.openxmlformats.org/officeDocument/2006/relationships/hyperlink" Target="http://linked-project.wikispaces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57240" y="3428640"/>
            <a:ext cx="70725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177c1"/>
                </a:solidFill>
                <a:latin typeface="Arial"/>
                <a:ea typeface="Arial"/>
              </a:rPr>
              <a:t>LINKED kick-off meeting</a:t>
            </a:r>
            <a:br>
              <a:rPr sz="3600"/>
            </a:br>
            <a:r>
              <a:rPr b="0" lang="fr-BE" sz="3600" spc="-1" strike="noStrike">
                <a:solidFill>
                  <a:srgbClr val="0177c1"/>
                </a:solidFill>
                <a:latin typeface="Arial"/>
                <a:ea typeface="Arial"/>
              </a:rPr>
              <a:t>Content of Work Packages 1-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856880" y="5148360"/>
            <a:ext cx="66438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Brussels, 17-18 March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Caroline Kearn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4: Technical development (EU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57120" y="1285560"/>
            <a:ext cx="8501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Development of technical specifications           based on input from WPs 2 &amp; 3 (i.e. literature review, testing &amp; feedback, user nee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Features of brokerage platfor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Community of practice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link to Games in Schools NING: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amesinschools.ning.com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Web content pages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relevant news, events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Document/resource library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upload/download relevant do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Videos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 (existing ones &amp; new ones to be produc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RSS aggregator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from national sources &amp; brokerage syste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Search tool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by keywords, country, language, type of content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EE7-A14A-48D0-A000-EE0E0A8402FB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6"/>
          <p:cNvSpPr/>
          <p:nvPr/>
        </p:nvSpPr>
        <p:spPr>
          <a:xfrm>
            <a:off x="5715000" y="135720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5: Debriefing &amp; evaluation (ANS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285560"/>
            <a:ext cx="8572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2 aspects to be evalu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The quality of: - consortiu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                        </a:t>
            </a: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- brokerag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Through formative and summative pe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Quality plan to be produced in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April </a:t>
            </a: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for internal project processes &amp;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Final evaluation report        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Januar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E6B1-B660-4805-81AC-58CFBE59C39E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ight Arrow 6"/>
          <p:cNvSpPr/>
          <p:nvPr/>
        </p:nvSpPr>
        <p:spPr>
          <a:xfrm>
            <a:off x="4786200" y="528624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379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  <a:ea typeface="Arial"/>
              </a:rPr>
              <a:t>WP 6: Dissemination &amp; sustainability (EU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85480" y="1357200"/>
            <a:ext cx="86439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Communication plan at European &amp; national level to include us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EUN/national web portals (promote through news &amp; eve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EUN/national newsletters to policy makers &amp; tea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Vid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Training workshop on platform for policy makers &amp; teachers (Eminent 201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Final dissemination &amp; sustainability plan       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  January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080-E89B-4540-8D6A-234A6BBB4D7E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6"/>
          <p:cNvSpPr/>
          <p:nvPr/>
        </p:nvSpPr>
        <p:spPr>
          <a:xfrm>
            <a:off x="6143760" y="5214960"/>
            <a:ext cx="785520" cy="3571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358120" cy="9284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INKED: February 2010 – January 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400" y="1356840"/>
            <a:ext cx="8429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INKED</a:t>
            </a:r>
            <a:r>
              <a:rPr b="0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everaging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nnovation for a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etwork of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nowledge on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1 year project funded under the EC’s Lifelong Learning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to develop a dynamic online brokerage platform on digital skills &amp; digital games for policy makers and practitio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E22-A239-4618-ADA1-2F94D77FED9A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LINKED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à coins arrondis 4"/>
          <p:cNvSpPr/>
          <p:nvPr/>
        </p:nvSpPr>
        <p:spPr>
          <a:xfrm>
            <a:off x="3000240" y="1500120"/>
            <a:ext cx="3071880" cy="857160"/>
          </a:xfrm>
          <a:prstGeom prst="roundRect">
            <a:avLst>
              <a:gd name="adj" fmla="val 16667"/>
            </a:avLst>
          </a:prstGeom>
          <a:solidFill>
            <a:srgbClr val="005b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EUN -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s 1,4 &amp; 6)</a:t>
            </a:r>
            <a:r>
              <a:rPr b="0" lang="fr-BE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à coins arrondis 5"/>
          <p:cNvSpPr/>
          <p:nvPr/>
        </p:nvSpPr>
        <p:spPr>
          <a:xfrm>
            <a:off x="285840" y="3000240"/>
            <a:ext cx="235728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NCIE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6"/>
          <p:cNvSpPr/>
          <p:nvPr/>
        </p:nvSpPr>
        <p:spPr>
          <a:xfrm>
            <a:off x="3429000" y="3000240"/>
            <a:ext cx="228600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Uni. of Helsinki, 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à coins arrondis 7"/>
          <p:cNvSpPr/>
          <p:nvPr/>
        </p:nvSpPr>
        <p:spPr>
          <a:xfrm>
            <a:off x="357120" y="464328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b94"/>
                </a:solidFill>
                <a:latin typeface="Arial"/>
                <a:ea typeface="Arial"/>
              </a:rPr>
              <a:t>DGIDC,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e la date 19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20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16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BFF-3334-4B2C-9510-F23625CEEE7A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à coins arrondis 6"/>
          <p:cNvSpPr/>
          <p:nvPr/>
        </p:nvSpPr>
        <p:spPr>
          <a:xfrm>
            <a:off x="6143760" y="3000240"/>
            <a:ext cx="228600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NSAS,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à coins arrondis 7"/>
          <p:cNvSpPr/>
          <p:nvPr/>
        </p:nvSpPr>
        <p:spPr>
          <a:xfrm>
            <a:off x="3429000" y="4643280"/>
            <a:ext cx="2357280" cy="785880"/>
          </a:xfrm>
          <a:prstGeom prst="roundRect">
            <a:avLst>
              <a:gd name="adj" fmla="val 16667"/>
            </a:avLst>
          </a:prstGeom>
          <a:solidFill>
            <a:srgbClr val="a5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b94"/>
                </a:solidFill>
                <a:latin typeface="Arial"/>
                <a:ea typeface="Arial"/>
              </a:rPr>
              <a:t>Tiger Leap Foundation,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à coins arrondis 7"/>
          <p:cNvSpPr/>
          <p:nvPr/>
        </p:nvSpPr>
        <p:spPr>
          <a:xfrm>
            <a:off x="6215040" y="471492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b94"/>
                </a:solidFill>
                <a:latin typeface="Arial"/>
                <a:ea typeface="Arial"/>
              </a:rPr>
              <a:t>CITE,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3828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work packages 1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pied de page 3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7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9665-6EDC-4444-8ADA-E33413A4A91A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rcRect l="14247" t="24290" r="15800" b="14177"/>
          <a:stretch/>
        </p:blipFill>
        <p:spPr>
          <a:xfrm>
            <a:off x="285840" y="857160"/>
            <a:ext cx="8572320" cy="537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1: Management (EU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214280"/>
            <a:ext cx="835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3 management meet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- kick-off meeting: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17-18 March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- mid-project meeting: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22 June 2010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            PIC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- final meeting: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Nov. 2010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           EMINENT confer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Additional conference calls if needed </a:t>
            </a:r>
            <a:r>
              <a:rPr b="0" lang="en-US" sz="4800" spc="-1" strike="noStrike">
                <a:solidFill>
                  <a:srgbClr val="005b94"/>
                </a:solidFill>
                <a:latin typeface="Wingdings"/>
                <a:ea typeface="Wingdings"/>
              </a:rPr>
              <a:t>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llow-up to all meetings (agenda, minutes, working documents etc.) to be stored on LINKED wik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linked-project.wikispaces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D2DA-F3FE-40A0-956E-FCC7FD535139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6"/>
          <p:cNvSpPr/>
          <p:nvPr/>
        </p:nvSpPr>
        <p:spPr>
          <a:xfrm>
            <a:off x="5357880" y="214308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ight Arrow 7"/>
          <p:cNvSpPr/>
          <p:nvPr/>
        </p:nvSpPr>
        <p:spPr>
          <a:xfrm>
            <a:off x="3929040" y="2571840"/>
            <a:ext cx="85716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1: Management (EU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480" y="1285560"/>
            <a:ext cx="8643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LINKED wiki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linked-project.wikispaces.com</a:t>
            </a:r>
            <a:r>
              <a:rPr b="0" lang="en-US" sz="2400" spc="-1" strike="noStrike" u="sng">
                <a:solidFill>
                  <a:srgbClr val="005b94"/>
                </a:solidFill>
                <a:uFillTx/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 document repository &amp; work space</a:t>
            </a: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 to facilitate coordination &amp; exchange among partners (all documents &amp; templates for WP’s will be stored here </a:t>
            </a:r>
            <a:r>
              <a:rPr b="0" lang="en-US" sz="2400" spc="-1" strike="noStrike">
                <a:solidFill>
                  <a:srgbClr val="005b94"/>
                </a:solidFill>
                <a:latin typeface="Wingdings"/>
                <a:ea typeface="Wingdings"/>
              </a:rPr>
              <a:t></a:t>
            </a:r>
            <a:r>
              <a:rPr b="0" lang="en-US" sz="2400" spc="-1" strike="noStrike">
                <a:solidFill>
                  <a:srgbClr val="005b94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LINKED mailing list (</a:t>
            </a:r>
            <a:r>
              <a:rPr b="0" lang="fr-BE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linked@eun.org</a:t>
            </a: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)         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to communicate easily with all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Coordination of all project tasks, contractual &amp; financial aspects to be managed by EUN, in cooperation with all partners           Final management report by EUN,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Jan.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29D-21BA-4413-9441-947AF84E3E04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ight Arrow 6"/>
          <p:cNvSpPr/>
          <p:nvPr/>
        </p:nvSpPr>
        <p:spPr>
          <a:xfrm>
            <a:off x="7715160" y="1357200"/>
            <a:ext cx="857520" cy="3574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ight Arrow 7"/>
          <p:cNvSpPr/>
          <p:nvPr/>
        </p:nvSpPr>
        <p:spPr>
          <a:xfrm>
            <a:off x="5715000" y="3643200"/>
            <a:ext cx="8571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ight Arrow 8"/>
          <p:cNvSpPr/>
          <p:nvPr/>
        </p:nvSpPr>
        <p:spPr>
          <a:xfrm>
            <a:off x="1857240" y="5643720"/>
            <a:ext cx="85752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5144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INKED wiki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linked-project.wikispaces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ate Placeholder 4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500040" y="71280"/>
            <a:ext cx="7143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170-DDD4-4D98-961B-5725FCD10D37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3"/>
          <a:srcRect l="0" t="13491" r="1078" b="5577"/>
          <a:stretch/>
        </p:blipFill>
        <p:spPr>
          <a:xfrm>
            <a:off x="285840" y="1095480"/>
            <a:ext cx="8429400" cy="519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2: Testing &amp; blueprint (NCIE, NO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7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8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351C-DEEE-48DB-8AEC-35D078BD46EE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à coins arrondis 9"/>
          <p:cNvSpPr/>
          <p:nvPr/>
        </p:nvSpPr>
        <p:spPr>
          <a:xfrm>
            <a:off x="3571920" y="1285920"/>
            <a:ext cx="2214360" cy="857160"/>
          </a:xfrm>
          <a:prstGeom prst="roundRect">
            <a:avLst>
              <a:gd name="adj" fmla="val 16667"/>
            </a:avLst>
          </a:prstGeom>
          <a:solidFill>
            <a:srgbClr val="005b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Blueprint for LINKED brokerag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23"/>
          <p:cNvSpPr/>
          <p:nvPr/>
        </p:nvSpPr>
        <p:spPr>
          <a:xfrm rot="20220600">
            <a:off x="4993920" y="2154240"/>
            <a:ext cx="1428840" cy="135720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26"/>
          <p:cNvSpPr/>
          <p:nvPr/>
        </p:nvSpPr>
        <p:spPr>
          <a:xfrm>
            <a:off x="5643720" y="2714760"/>
            <a:ext cx="192852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a7e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iterature Review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NCIE,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à coins arrondis 27"/>
          <p:cNvSpPr/>
          <p:nvPr/>
        </p:nvSpPr>
        <p:spPr>
          <a:xfrm>
            <a:off x="5429160" y="457200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Task to test brokerage platforms (E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à coins arrondis 28"/>
          <p:cNvSpPr/>
          <p:nvPr/>
        </p:nvSpPr>
        <p:spPr>
          <a:xfrm>
            <a:off x="2357280" y="4643280"/>
            <a:ext cx="164340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25560">
            <a:solidFill>
              <a:srgbClr val="017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all part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à coins arrondis 29"/>
          <p:cNvSpPr/>
          <p:nvPr/>
        </p:nvSpPr>
        <p:spPr>
          <a:xfrm>
            <a:off x="1785960" y="2714760"/>
            <a:ext cx="1571760" cy="857160"/>
          </a:xfrm>
          <a:prstGeom prst="roundRect">
            <a:avLst>
              <a:gd name="adj" fmla="val 16667"/>
            </a:avLst>
          </a:prstGeom>
          <a:solidFill>
            <a:srgbClr val="006b83"/>
          </a:solidFill>
          <a:ln w="25560">
            <a:solidFill>
              <a:srgbClr val="006b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Analysis of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NCIE,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30"/>
          <p:cNvSpPr/>
          <p:nvPr/>
        </p:nvSpPr>
        <p:spPr>
          <a:xfrm rot="2311800">
            <a:off x="4708080" y="2889000"/>
            <a:ext cx="1873440" cy="17794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31"/>
          <p:cNvSpPr/>
          <p:nvPr/>
        </p:nvSpPr>
        <p:spPr>
          <a:xfrm rot="11271600">
            <a:off x="2612520" y="2976480"/>
            <a:ext cx="1873440" cy="17812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32"/>
          <p:cNvSpPr/>
          <p:nvPr/>
        </p:nvSpPr>
        <p:spPr>
          <a:xfrm rot="15351600">
            <a:off x="2904480" y="2180160"/>
            <a:ext cx="1428480" cy="135720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33"/>
          <p:cNvSpPr/>
          <p:nvPr/>
        </p:nvSpPr>
        <p:spPr>
          <a:xfrm rot="6232800">
            <a:off x="3797640" y="3691440"/>
            <a:ext cx="1660680" cy="16174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8286840" cy="7855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  <a:ea typeface="Arial"/>
              </a:rPr>
              <a:t>WP 3: Content of brokerage platform (Uni. Helsink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7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8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A0E2-1683-43CC-9EA7-9A2456206171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9"/>
          <p:cNvSpPr/>
          <p:nvPr/>
        </p:nvSpPr>
        <p:spPr>
          <a:xfrm>
            <a:off x="3571920" y="1285920"/>
            <a:ext cx="2214360" cy="857160"/>
          </a:xfrm>
          <a:prstGeom prst="roundRect">
            <a:avLst>
              <a:gd name="adj" fmla="val 16667"/>
            </a:avLst>
          </a:prstGeom>
          <a:solidFill>
            <a:srgbClr val="005b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INKED brokerage platform (digital Skills &amp; g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23"/>
          <p:cNvSpPr/>
          <p:nvPr/>
        </p:nvSpPr>
        <p:spPr>
          <a:xfrm rot="20220600">
            <a:off x="4922640" y="2082960"/>
            <a:ext cx="1428480" cy="135720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à coins arrondis 26"/>
          <p:cNvSpPr/>
          <p:nvPr/>
        </p:nvSpPr>
        <p:spPr>
          <a:xfrm>
            <a:off x="5429160" y="257184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a7e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estionnaire on desired knowledge &amp; format (Policy: EUN, Practice: Uni. Helsin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à coins arrondis 27"/>
          <p:cNvSpPr/>
          <p:nvPr/>
        </p:nvSpPr>
        <p:spPr>
          <a:xfrm>
            <a:off x="5214960" y="4429080"/>
            <a:ext cx="3000240" cy="857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Translate knowledge requests into research questions (Uni. Helsin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à coins arrondis 28"/>
          <p:cNvSpPr/>
          <p:nvPr/>
        </p:nvSpPr>
        <p:spPr>
          <a:xfrm>
            <a:off x="1857240" y="4500720"/>
            <a:ext cx="2143440" cy="107136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25560">
            <a:solidFill>
              <a:srgbClr val="017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Collection of relevant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all partners) &amp; videos (E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à coins arrondis 29"/>
          <p:cNvSpPr/>
          <p:nvPr/>
        </p:nvSpPr>
        <p:spPr>
          <a:xfrm>
            <a:off x="1000080" y="2500200"/>
            <a:ext cx="2786040" cy="1214640"/>
          </a:xfrm>
          <a:prstGeom prst="roundRect">
            <a:avLst>
              <a:gd name="adj" fmla="val 16667"/>
            </a:avLst>
          </a:prstGeom>
          <a:solidFill>
            <a:srgbClr val="006b83"/>
          </a:solidFill>
          <a:ln w="25560">
            <a:solidFill>
              <a:srgbClr val="006b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Research reviews/knowledge outputs tailored to user needs (Uni. Henslink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30"/>
          <p:cNvSpPr/>
          <p:nvPr/>
        </p:nvSpPr>
        <p:spPr>
          <a:xfrm rot="2311800">
            <a:off x="4708080" y="2889000"/>
            <a:ext cx="1873440" cy="17794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31"/>
          <p:cNvSpPr/>
          <p:nvPr/>
        </p:nvSpPr>
        <p:spPr>
          <a:xfrm rot="11271600">
            <a:off x="2612520" y="2976480"/>
            <a:ext cx="1873440" cy="17812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32"/>
          <p:cNvSpPr/>
          <p:nvPr/>
        </p:nvSpPr>
        <p:spPr>
          <a:xfrm rot="15351600">
            <a:off x="2975760" y="2108160"/>
            <a:ext cx="1428840" cy="135756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33"/>
          <p:cNvSpPr/>
          <p:nvPr/>
        </p:nvSpPr>
        <p:spPr>
          <a:xfrm rot="6232800">
            <a:off x="3583440" y="3834360"/>
            <a:ext cx="1660680" cy="161784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Administrator</cp:lastModifiedBy>
  <dcterms:modified xsi:type="dcterms:W3CDTF">2010-03-16T20:04:10Z</dcterms:modified>
  <cp:revision>120</cp:revision>
  <dc:subject/>
  <dc:title>Title</dc:title>
</cp:coreProperties>
</file>